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B981-B265-485B-907F-494B0FC366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BC3-1D9E-4783-8125-676EF8F0B6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06FE-79B2-4F0A-8193-DAE10F1904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1D9-35B7-477B-96F7-9FDEF3172F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BEA-6159-4DD8-9754-05A3B40923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74DB-8BC4-4BD1-9289-952F6136EC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F8D5-C7CC-4545-ADE4-19CBAED1C7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7CA5-7DE3-47C4-BABC-CBE6667A5F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359-4B5A-4BEC-8FAA-B343A06134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134F-79CA-4CE9-882E-4BFB6BF8FE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3AFD-CC41-4DF4-AC83-E37061BC0F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024A-434C-4CBD-B861-C90D6BFA73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45C0-E798-480E-A63A-60C5EBDF32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2C2-3011-402D-B020-F3C1003B49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BFB1-DA16-43D1-9695-B53EED549B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1BD7-5940-4861-92B6-1DF3DADCCD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22A-BB19-4764-A693-A4CF8F7D3D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A1B9-9449-4BF7-AEDD-E63A0C5BB2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DA7-E336-455C-8693-299B4968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BCC-DC9C-4435-A76B-1765B56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DF9-3937-43A0-87F9-2DA735AE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E85-3D0D-419E-81F8-CA6DA3E7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15D1-04DA-4BDF-A104-3DBBD50A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DD8-53FD-474C-9D0F-BDD873DD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E454-A472-4743-8824-4988F43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F0D-2BA5-4990-B88E-6D4123B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A22-5EE2-4556-A178-DE660DCB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F08-7745-4B3D-9448-63E6A56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32A0-4D8F-42E4-9C32-E24231C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499-659B-4937-9A19-D1881715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9BFB-56F3-4633-B3AB-D686ECE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864-D7C9-4AE7-B9A3-EF1B7BCC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47E-5DDC-4AF9-B78B-A2ACD7E7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602-851E-4702-8833-6005F50B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CCA-28E3-44E7-B19C-609FF21C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40CF-6219-418A-A1A0-BBAAEBF6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7B26-8873-4C39-96FF-A24AD01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EE2A-4440-45D8-87D9-76F5C08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AC5E-CF60-43E4-9F6D-C4D1FC1B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CE48-A1EC-448D-8DDA-53473E0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237-37B5-4B0B-814E-AD19FBF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6CC0-3A66-47E5-9413-6D9C0633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89AD-9571-4CFB-802A-31ED03BB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302A-6378-4BD9-9C2B-B8CEBC85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198A-EB00-4DF3-8D79-F57FE332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586F-2A00-4D6A-A27F-2ACA40BD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7F17-0556-499D-9788-C06E7545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C9B6-0B8D-4CB8-9655-5D6F0827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D5B-CE35-4879-9A28-41B1858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2E2-C7E7-4E00-B5CB-9BDE199E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4BE-17DB-4D0D-ADBB-CDDAE4E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3D0-FD87-4A35-8160-1E063E1A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7F0-8B85-45F3-A8AC-DE2D081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D62-67DF-4311-93F6-871BC64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4421-12BB-48DE-9C6D-FFDE841CB798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B02B-D226-48F3-854D-8AA366582A01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DB7-33EB-47B3-BE39-F8DCB794D022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47520" y="-360"/>
            <a:ext cx="8674200" cy="25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章 人体内物质的运输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  输血与血型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圆角矩形 6">
            <a:hlinkClick r:id="rId1" action="ppaction://hlinksldjump"/>
          </p:cNvPr>
          <p:cNvSpPr/>
          <p:nvPr/>
        </p:nvSpPr>
        <p:spPr>
          <a:xfrm>
            <a:off x="4414680" y="246708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学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菱形 8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菱形 9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10">
            <a:hlinkClick r:id="rId2" action="ppaction://hlinksldjump"/>
          </p:cNvPr>
          <p:cNvSpPr/>
          <p:nvPr/>
        </p:nvSpPr>
        <p:spPr>
          <a:xfrm>
            <a:off x="4414680" y="328464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前预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圆角矩形 11">
            <a:hlinkClick r:id="rId3" action="ppaction://hlinksldjump"/>
          </p:cNvPr>
          <p:cNvSpPr/>
          <p:nvPr/>
        </p:nvSpPr>
        <p:spPr>
          <a:xfrm>
            <a:off x="4414680" y="407664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12">
            <a:hlinkClick r:id="rId4" action="ppaction://hlinksldjump"/>
          </p:cNvPr>
          <p:cNvSpPr/>
          <p:nvPr/>
        </p:nvSpPr>
        <p:spPr>
          <a:xfrm>
            <a:off x="4414680" y="566100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13">
            <a:hlinkClick r:id="rId5" action="ppaction://hlinksldjump"/>
          </p:cNvPr>
          <p:cNvSpPr/>
          <p:nvPr/>
        </p:nvSpPr>
        <p:spPr>
          <a:xfrm>
            <a:off x="4414680" y="4869000"/>
            <a:ext cx="32655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随堂检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9224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1774800" y="90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二  血量和无偿献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1525680" y="1484280"/>
            <a:ext cx="905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张弛同学是大学一年级的学生，周末外出看到流动献血车，就主动上前要求献血。医生首先要求他填写关于健康情况的表格，然后为他验血型，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。身体检查合格后，张弛同学无偿献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mL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请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70~7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内容，认真回答以下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献血前，为什么要对张弛进行健康检查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1614600" y="4941720"/>
            <a:ext cx="89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只有身体健康者的血才能输给受血者，如果不健康者的血输给受血者，会传染给受血者其它的疾病，因此必须对献血者进行身体健康检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矩形 1"/>
          <p:cNvSpPr/>
          <p:nvPr/>
        </p:nvSpPr>
        <p:spPr>
          <a:xfrm>
            <a:off x="1523880" y="1125360"/>
            <a:ext cx="905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献血前，医生为什么要为张弛化验血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张弛同学的血可以给哪些血型的病人使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1897200" y="1847880"/>
            <a:ext cx="83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输血时若血型不符会使输入的红细胞发生凝集，所以在输血前必须作血型鉴定，大量输血以输同型血为原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"/>
          <p:cNvSpPr/>
          <p:nvPr/>
        </p:nvSpPr>
        <p:spPr>
          <a:xfrm>
            <a:off x="1685880" y="501336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张弛同学是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型血，可供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型、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型血病人使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1523880" y="1197000"/>
            <a:ext cx="905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张弛同学献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mL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会不会影响他的健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如果你是张弛，你愿意参加无偿献血吗？为什么要提倡无偿献血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/>
          <p:cNvSpPr/>
          <p:nvPr/>
        </p:nvSpPr>
        <p:spPr>
          <a:xfrm>
            <a:off x="3563640" y="47973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愿意，无偿献血可以帮助失血者恢复健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2077920" y="206064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不会，一个健康的成年人每次献血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0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00 mL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不会影响身体健康，而且还有利于提高自身造血器官的造血功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922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1523880" y="1360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一：血型和安全输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型为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的小亮不慎受伤，需要输血，应给他输入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如果血型不合，输血后会出现凝集现象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浆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红细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白细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小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979720" y="256212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2197080" y="506484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5214960" y="267084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2021040" y="1638360"/>
            <a:ext cx="795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甲常说：“我是万能输血者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”乙却说：“我是万能受血者”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请你分析一下，甲、乙的血型分别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1527120" y="1513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二：血量和无偿献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成年人的血量约占体重的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%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%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%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0%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%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健康成年人每次献血（　　）毫升，不会影响健康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﹣3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00﹣5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00﹣10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00﹣1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7342200" y="24818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6567480" y="388368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551808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夯实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1523880" y="138924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体大量出汗或严重腹泻的情况下，血液中主要丢失的成分和采取的措施分别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浆、静脉输生理盐水或葡萄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小板、动脉输同型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浆、动脉输生理盐水或葡萄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红细胞、静脉输红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在无同型血的紧急情况下，危险性最大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8362800" y="18709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2103480" y="48632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1523880" y="1942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无偿献血是我国现行的献血制度，下列有关献血的说法错误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献血时针刺入的血管是静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输血时应以输同型血为原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任何人都可以参加献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一次献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不会影响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5472000" y="21405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1523880" y="2321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无偿献血是我国现行的献血制度，它要求某个年齡段的健康公民自愿无偿献出一定数量的自身血液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这个年龄段和献血数量分别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周岁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周岁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周岁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5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周岁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8317080" y="31359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4824360" y="19249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3"/>
          <p:cNvSpPr/>
          <p:nvPr/>
        </p:nvSpPr>
        <p:spPr>
          <a:xfrm>
            <a:off x="2103480" y="1355760"/>
            <a:ext cx="80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当成年人受伤一次失血超过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00﹣10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时，会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立即死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出现头晕、心跳、眼前发黑和出冷汗等症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生生命危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不影响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标题 1"/>
          <p:cNvSpPr/>
          <p:nvPr/>
        </p:nvSpPr>
        <p:spPr>
          <a:xfrm>
            <a:off x="2006640" y="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导学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754280" y="836640"/>
            <a:ext cx="826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558800" y="1685880"/>
            <a:ext cx="9109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会列举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血型的类型，特别是输血与血型的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说出人体的血量，认同我国的无偿献血制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944440" y="3565440"/>
            <a:ext cx="8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重、难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631880" y="43830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说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血型的类型及输血的原则，认同我国的无偿献血制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输血的原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――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同型输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1523880" y="2321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健康的成年人为什么可以一次献血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﹣30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，原因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三个月左右可以恢复正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所丧失的血浆成分与血细胞可在短时间内恢复正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少量损失血液有助于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对人体的影响不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4714920" y="25995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1523880" y="4329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临床上常根据病人病情的需要，有针对性地选用不同的血细胞成分或血浆成分输入病人体内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对于严重贫血的病人应给他（她）输入的成分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浆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红细胞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血小板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白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2160720" y="53298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2"/>
          <p:cNvSpPr/>
          <p:nvPr/>
        </p:nvSpPr>
        <p:spPr>
          <a:xfrm>
            <a:off x="1639800" y="106992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血型有哪几种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和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Rh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461280" y="10515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1523880" y="2291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输血和献血的说法中错误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献血有利于提高自身造血器官的造血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健康成年人每次献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00﹣30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不会影响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血型的人只能给同血型的人输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是万能输血者，当需要大量输血时，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为任何血型的人输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2365200" y="23389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1523880" y="2534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小明一家三口的血型各不相同，在紧急的情况下，爸爸可以给小明和妈妈输血，小明也可以给妈妈输血，但妈妈既不能给爸爸输血又不能给小明输血，他们的血型可能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爸爸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妈妈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小明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爸爸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妈妈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小明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爸爸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妈妈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小明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爸爸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妈妈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小明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626160" y="33472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1830240" y="3159720"/>
            <a:ext cx="846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某单位出了一张宣传海报，号召员工们积极参加无偿献血，为挽救他人的生命奉献爱心。刚刚大学毕业的小刘看海报后，第一个踏上了义务献血车．医务人员先给他喝了一杯水，然后叫他躺在一张躺椅上，开始验血、抽血。他看到抽出来的血被装进了一个袋子中，而袋子中事先被加入了一种液体，一边装血还一边轻轻震荡，不一会儿，献血就完成了。下车前医务人员对小刘表示感谢并叮嘱他一些饮食注意事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1843200" y="2385720"/>
            <a:ext cx="842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对于一个健康成年人来说，一次性献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毫升以下，所损失的血浆成分和血细胞可以在短期内得到补充，不会影响到健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"/>
          <p:cNvSpPr/>
          <p:nvPr/>
        </p:nvSpPr>
        <p:spPr>
          <a:xfrm>
            <a:off x="1943280" y="102708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从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年起，我国实行无偿献血制度，提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～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周岁的健康公民自愿献血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3529080" y="9849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2103480" y="25621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200~3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1714680" y="3814920"/>
            <a:ext cx="86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．请结合下面的资料，分析回答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CCTV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《东方时空》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200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日曾播出节目《一起输血背后的故事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</a:rPr>
              <a:t>以下是节目的基本内容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1846440" y="1125360"/>
            <a:ext cx="83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日，河南省泌阳县老河乡卫生院，在为剖腹产生孩子的寇娜输血时，把她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检测成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，并为她输入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0ml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0"/>
          <p:cNvSpPr/>
          <p:nvPr/>
        </p:nvSpPr>
        <p:spPr>
          <a:xfrm>
            <a:off x="1847880" y="3068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病人体内输入了与自身血型不符的异型血之后，出现了严重的溶血性反应，造成了产妇寇娜肝肾功能衰竭、生命垂危的恶果。经过连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天的抢救治疗，寇娜的生命体征开始逐渐稳定。这个年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岁的年轻生命，终于从死亡线上的挣扎了过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7042320" y="20239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、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1527120" y="20754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在人的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B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血型中，除资料中提到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O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、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以外，还包括哪几种血？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；产妇寇娜进行输血时，最好应接受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一般情况下，输血时应遵循的原则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；在紧急情况下，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可以少量输给其他三种血型的病人，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型血的病人可以接受所有血型的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7891560" y="25185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538280" y="3439800"/>
            <a:ext cx="20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输同型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6777000" y="35107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6099120" y="39870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图片 3" descr=""/>
          <p:cNvPicPr/>
          <p:nvPr/>
        </p:nvPicPr>
        <p:blipFill>
          <a:blip r:embed="rId1"/>
          <a:stretch/>
        </p:blipFill>
        <p:spPr>
          <a:xfrm>
            <a:off x="3287880" y="1916280"/>
            <a:ext cx="6324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>
            <a:off x="19303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菱形 2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菱形 2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587600" y="1958400"/>
            <a:ext cx="898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一  血型和安全输血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6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血型的发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9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，奥地利科学家兰德斯坦纳发现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血型系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常见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AB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血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输血的原则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输血时，应以输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为原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3349800" y="260100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7808760" y="317736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694480" y="403776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同型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097680" y="26024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90840" y="2152800"/>
          <a:ext cx="8734320" cy="2450880"/>
        </p:xfrm>
        <a:graphic>
          <a:graphicData uri="http://schemas.openxmlformats.org/drawingml/2006/table">
            <a:tbl>
              <a:tblPr/>
              <a:tblGrid>
                <a:gridCol w="2508120"/>
                <a:gridCol w="2913120"/>
                <a:gridCol w="3313080"/>
              </a:tblGrid>
              <a:tr h="48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某人的血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93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接受的血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输给的血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①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____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.B.AB.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e7e6e6"/>
                          </a:solidFill>
                          <a:latin typeface="宋体"/>
                          <a:ea typeface="宋体"/>
                        </a:rPr>
                        <a:t>②</a:t>
                      </a:r>
                      <a:r>
                        <a:rPr b="0" lang="en-US" sz="3200" spc="-1" strike="noStrike">
                          <a:solidFill>
                            <a:srgbClr val="e7e6e6"/>
                          </a:solidFill>
                          <a:latin typeface="宋体"/>
                          <a:ea typeface="宋体"/>
                        </a:rPr>
                        <a:t>____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93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93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.B.AB.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93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8310600" y="35917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1523880" y="1919520"/>
            <a:ext cx="898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任何血型的人都可以输入少量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 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血的人，可输入少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血，也可输入少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型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二  血量和无偿献血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人体血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成年人的血量大致相当于本人体重的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8123400" y="165816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8658360" y="45061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7%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8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737480" y="50378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血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2290680" y="261360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2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6680" y="1914480"/>
          <a:ext cx="8982000" cy="3699000"/>
        </p:xfrm>
        <a:graphic>
          <a:graphicData uri="http://schemas.openxmlformats.org/drawingml/2006/table">
            <a:tbl>
              <a:tblPr/>
              <a:tblGrid>
                <a:gridCol w="3195360"/>
                <a:gridCol w="5786640"/>
              </a:tblGrid>
              <a:tr h="77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次失血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93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身体的影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____________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毫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生命危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毫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出现头晕、心跳、眼前发黑和出冷汗等症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≤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毫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93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身体可在短期内补充失去的血浆成分和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________</a:t>
                      </a:r>
                      <a:r>
                        <a:rPr b="0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93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矩形 6"/>
          <p:cNvSpPr/>
          <p:nvPr/>
        </p:nvSpPr>
        <p:spPr>
          <a:xfrm>
            <a:off x="2509560" y="1069920"/>
            <a:ext cx="31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失血量对身体的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1523880" y="2640600"/>
            <a:ext cx="898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倡导无偿献血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9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起，我国实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献血制度，提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周岁的健康公民自愿献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健康成年人每次献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毫升是不会影响健康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5821200" y="35359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2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6381720" y="25567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无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847880" y="10476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兰亭黑简体"/>
              </a:rPr>
              <a:t>探究一  血型和安全输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1608120" y="1746360"/>
            <a:ext cx="90630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请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7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内容，认真回答以下关于血型和安全输血的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李明既能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的人输血，又能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的血的人输血，李明的血型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张华能接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四种类型的血，张华的血型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王桦能接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，而不能接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，王桦的血型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6456240" y="321444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5303880" y="429480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808600" y="537516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600200" y="1042920"/>
            <a:ext cx="90630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赵灿只能接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，赵灿的血型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陈平能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的人输血，却不能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型血的人输血，陈平的血型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019240" y="1528920"/>
            <a:ext cx="14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7032600" y="263808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Windows 用户</dc:creator>
  <dc:description/>
  <dc:language>en-US</dc:language>
  <cp:lastModifiedBy>Windows 用户</cp:lastModifiedBy>
  <dcterms:modified xsi:type="dcterms:W3CDTF">2018-02-26T10:12:07Z</dcterms:modified>
  <cp:revision>3</cp:revision>
  <dc:subject/>
  <dc:title>PowerPoint 演示文稿</dc:title>
</cp:coreProperties>
</file>